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73A90-71F0-4283-9E2A-8F3FB258E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FFB97-30D8-45E8-9549-C461E420D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13BD-2070-4BD1-AC89-925E1C86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8D7FF-16DD-4E66-B761-726ADCDBC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1832-268C-4A1B-AF4D-7141D027E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2B146-4E1F-455B-A1D8-97221907F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B67C9-F994-44AF-ADFD-B5ED195AB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3CDA-59FE-4EAD-811B-0A6DBFD9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DBD87-70A3-4A86-9749-F51394ECE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CB6F8-9DB3-4360-8177-A77248B89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CEDC-4C2F-4A93-8339-4D360A4C6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63C3-9549-4EFE-A769-20F62F45F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82A3-4B9B-42D1-9038-91658B9797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 calcmode="lin" valueType="num">
                                      <p:cBhvr additive="repl">
                                        <p:cTn id="15"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4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4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4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41"/>
                                        </p:tgtEl>
                                        <p:attrNameLst>
                                          <p:attrName>ppt_y</p:attrName>
                                        </p:attrNameLst>
                                      </p:cBhvr>
                                      <p:tavLst>
                                        <p:tav tm="0">
                                          <p:val>
                                            <p:strVal val="#ppt_y"/>
                                          </p:val>
                                        </p:tav>
                                        <p:tav tm="100000">
                                          <p:val>
                                            <p:strVal val="#ppt_y"/>
                                          </p:val>
                                        </p:tav>
                                      </p:tavLst>
                                    </p:anim>
                                    <p:set>
                                      <p:cBhvr>
                                        <p:cTn id="26" dur="1" fill="hold">
                                          <p:stCondLst>
                                            <p:cond delay="499"/>
                                          </p:stCondLst>
                                        </p:cTn>
                                        <p:tgtEl>
                                          <p:spTgt spid="41"/>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4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4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4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42">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4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tretch/>
        </p:blipFill>
        <p:spPr>
          <a:xfrm>
            <a:off x="5029200" y="1600200"/>
            <a:ext cx="180036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7a3</cp:lastModifiedBy>
  <dcterms:modified xsi:type="dcterms:W3CDTF">2012-06-10T10:50:07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